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696-CDFE-4D58-99B8-DD45F2C1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3FD-4E0B-46A6-81D2-279A2E0B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FEE-5879-4D8A-84FF-02E8CA59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C61-51FB-4F70-B314-92FA3FDD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E04-979E-4431-8BA3-BEAB5B09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DCC-DE37-4D22-8808-F128ADF4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7F1-C63E-4D8E-8F69-9326EF0E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2F3-3C34-461C-910B-0B109BEB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0D9-4FB8-4F4C-BE46-69AAC992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84E-840A-4C5C-917E-AC13C82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013-0A69-4DB1-B965-C1FF28BF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583-F167-4B75-8D75-C8E986CF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293FCF-CF25-4B9D-A32D-DA5A4E1DF422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07CBB7-70C6-438E-890E-6454F372181D}" type="slidenum">
              <a:rPr b="0" lang="pt-B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94C3CD-9470-4999-B020-9ABD0DA66227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B82B64-F0ED-473A-A78C-181058C71853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2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9D518B-3FBF-47BB-A24A-4AFB9633594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6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A746AD-1F99-40B9-BCC1-CAA20F11B940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51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FF2651-6D50-4731-B4EA-E827BD67F939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4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3AD03C-3739-4135-A091-15FCBDA6190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9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670D1A-17E1-4521-A3A1-3DE22262646C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764377-DB09-4B9C-8A8F-4E4A1C2213A8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847110-CBE6-4643-9A2D-ECB448B158CB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7CC3CD-BC59-4B74-9923-8E665F6A6CD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C0E1A6-1A6B-445B-8B97-FE7FDD117328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0"/>
          <p:cNvSpPr/>
          <p:nvPr/>
        </p:nvSpPr>
        <p:spPr>
          <a:xfrm>
            <a:off x="8628480" y="6545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8873F9-225F-4115-8050-0201CC547F5F}" type="slidenum">
              <a:rPr b="0" lang="pt-BR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tângulo 13"/>
          <p:cNvSpPr/>
          <p:nvPr/>
        </p:nvSpPr>
        <p:spPr>
          <a:xfrm>
            <a:off x="-6480" y="-9360"/>
            <a:ext cx="787248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Imagem 2" descr=""/>
          <p:cNvPicPr/>
          <p:nvPr/>
        </p:nvPicPr>
        <p:blipFill>
          <a:blip r:embed="rId2"/>
          <a:stretch/>
        </p:blipFill>
        <p:spPr>
          <a:xfrm>
            <a:off x="7927920" y="88920"/>
            <a:ext cx="110808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2" descr=""/>
          <p:cNvPicPr/>
          <p:nvPr/>
        </p:nvPicPr>
        <p:blipFill>
          <a:blip r:embed="rId3"/>
          <a:stretch/>
        </p:blipFill>
        <p:spPr>
          <a:xfrm>
            <a:off x="393840" y="84240"/>
            <a:ext cx="5254560" cy="482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evidencia.gov.br/a-previdencia/orgaos-colegiados/conselho-nacional-de-previdencia-social-cnps/" TargetMode="External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395280" y="98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MINISTÉRIO DA FAZ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8080"/>
                </a:solidFill>
                <a:latin typeface="Arial"/>
              </a:rPr>
              <a:t>Secretaria de Políticas de Previdência Social - SP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755640" y="2349360"/>
            <a:ext cx="7775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pt-BR" sz="4400" spc="-1" strike="noStrike">
                <a:solidFill>
                  <a:srgbClr val="000080"/>
                </a:solidFill>
                <a:latin typeface="Arial"/>
              </a:rPr>
              <a:t>Conselho Nacional de Previdência – CNP; e Conselho de Previdência Social - C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755640" y="5587920"/>
            <a:ext cx="754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8080"/>
                </a:solidFill>
                <a:latin typeface="Arial"/>
              </a:rPr>
              <a:t>16 de Fevereiro de 20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GRANDES NÚMEROS DO INSS </a:t>
            </a:r>
            <a:br>
              <a:rPr sz="4400"/>
            </a:b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(Posição em dezembro de 2016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3,8 milhões de benefícios em manutenção (Benefícios do RGPS, Assistenciais e Benefícios Indenizatórios da Uniã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723,3 mil novos requerimentos, em média, por mês em 2016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4,0 milhões de ligações recebidas nas centrais 135/mês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693 mil perícias realizadas/mê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,2 milhões de atendimentos presenciais nas APS/mê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 algn="just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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36,3 mil servidores ativos (inclusive os cedidos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9720" indent="-279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71520"/>
                <a:tab algn="l" pos="744480"/>
                <a:tab algn="l" pos="1119240"/>
                <a:tab algn="l" pos="1494000"/>
                <a:tab algn="l" pos="1868400"/>
                <a:tab algn="l" pos="2243160"/>
                <a:tab algn="l" pos="2617920"/>
                <a:tab algn="l" pos="2990880"/>
                <a:tab algn="l" pos="3365640"/>
                <a:tab algn="l" pos="3740040"/>
                <a:tab algn="l" pos="4114800"/>
                <a:tab algn="l" pos="4489560"/>
                <a:tab algn="l" pos="4863960"/>
                <a:tab algn="l" pos="5237280"/>
                <a:tab algn="l" pos="5611680"/>
                <a:tab algn="l" pos="5986440"/>
                <a:tab algn="l" pos="6361200"/>
                <a:tab algn="l" pos="6735600"/>
                <a:tab algn="l" pos="7110360"/>
                <a:tab algn="l" pos="7483320"/>
                <a:tab algn="l" pos="7834320"/>
                <a:tab algn="l" pos="8207280"/>
                <a:tab algn="l" pos="8580600"/>
                <a:tab algn="l" pos="8953560"/>
                <a:tab algn="l" pos="9326520"/>
                <a:tab algn="l" pos="9699480"/>
                <a:tab algn="l" pos="10072800"/>
                <a:tab algn="l" pos="10445760"/>
                <a:tab algn="l" pos="10818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REDE DE ATENDIMENTO DO INSS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rcRect l="25018" t="19545" r="40728" b="37757"/>
          <a:stretch/>
        </p:blipFill>
        <p:spPr>
          <a:xfrm>
            <a:off x="1332000" y="2133720"/>
            <a:ext cx="2890800" cy="202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7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–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Presente em </a:t>
            </a: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1.605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Municípios (APS Fix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–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1.504 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Agências Convencionai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PREVBarco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7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Agências de Acordos Internaciona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3 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Agências de Teleatendimen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86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Agências de Atendimento de Demandas Judiciai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Arial"/>
                <a:ea typeface="Arial"/>
              </a:rPr>
              <a:t>90</a:t>
            </a:r>
            <a:r>
              <a:rPr b="1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 PREVCidades (convênios com prefeitur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2880">
              <a:lnSpc>
                <a:spcPct val="100000"/>
              </a:lnSpc>
              <a:buClr>
                <a:srgbClr val="629dd1"/>
              </a:buClr>
              <a:buSzPct val="105000"/>
              <a:buFont typeface="Arial"/>
              <a:buChar char="•"/>
              <a:tabLst>
                <a:tab algn="l" pos="606600"/>
                <a:tab algn="l" pos="909720"/>
                <a:tab algn="l" pos="1212840"/>
                <a:tab algn="l" pos="1515960"/>
                <a:tab algn="l" pos="1819440"/>
                <a:tab algn="l" pos="2122560"/>
                <a:tab algn="l" pos="2425680"/>
                <a:tab algn="l" pos="2728800"/>
                <a:tab algn="l" pos="3032280"/>
                <a:tab algn="l" pos="3335400"/>
                <a:tab algn="l" pos="3638520"/>
                <a:tab algn="l" pos="3941640"/>
                <a:tab algn="l" pos="4245120"/>
                <a:tab algn="l" pos="4548240"/>
                <a:tab algn="l" pos="4851360"/>
                <a:tab algn="l" pos="5154480"/>
                <a:tab algn="l" pos="5457960"/>
                <a:tab algn="l" pos="5761080"/>
                <a:tab algn="l" pos="6064200"/>
                <a:tab algn="l" pos="63673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" descr="C:\Users\CIBELE~1.CAS\AppData\Local\Temp\PREVBarco.jpg"/>
          <p:cNvPicPr/>
          <p:nvPr/>
        </p:nvPicPr>
        <p:blipFill>
          <a:blip r:embed="rId2"/>
          <a:stretch/>
        </p:blipFill>
        <p:spPr>
          <a:xfrm>
            <a:off x="1355760" y="4221000"/>
            <a:ext cx="2811600" cy="18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79" name="Retângulo 8"/>
          <p:cNvGrpSpPr/>
          <p:nvPr/>
        </p:nvGrpSpPr>
        <p:grpSpPr>
          <a:xfrm>
            <a:off x="5273640" y="5211720"/>
            <a:ext cx="3297240" cy="573120"/>
            <a:chOff x="5273640" y="5211720"/>
            <a:chExt cx="3297240" cy="573120"/>
          </a:xfrm>
        </p:grpSpPr>
        <p:pic>
          <p:nvPicPr>
            <p:cNvPr id="580" name="Retângulo 8" descr=""/>
            <p:cNvPicPr/>
            <p:nvPr/>
          </p:nvPicPr>
          <p:blipFill>
            <a:blip r:embed="rId3"/>
            <a:stretch/>
          </p:blipFill>
          <p:spPr>
            <a:xfrm>
              <a:off x="5273640" y="5211720"/>
              <a:ext cx="32972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5292720" y="5232240"/>
              <a:ext cx="325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 algn="ctr">
                <a:tabLst>
                  <a:tab algn="l" pos="0"/>
                  <a:tab algn="l" pos="303120"/>
                  <a:tab algn="l" pos="606600"/>
                  <a:tab algn="l" pos="909720"/>
                  <a:tab algn="l" pos="1212840"/>
                  <a:tab algn="l" pos="1515960"/>
                  <a:tab algn="l" pos="1819440"/>
                  <a:tab algn="l" pos="2122560"/>
                  <a:tab algn="l" pos="2425680"/>
                  <a:tab algn="l" pos="2728800"/>
                  <a:tab algn="l" pos="3032280"/>
                  <a:tab algn="l" pos="3335400"/>
                  <a:tab algn="l" pos="3638520"/>
                  <a:tab algn="l" pos="3941640"/>
                  <a:tab algn="l" pos="4245120"/>
                  <a:tab algn="l" pos="4548240"/>
                  <a:tab algn="l" pos="4851360"/>
                  <a:tab algn="l" pos="5154480"/>
                  <a:tab algn="l" pos="5457960"/>
                  <a:tab algn="l" pos="5761080"/>
                  <a:tab algn="l" pos="6064200"/>
                </a:tabLst>
              </a:pPr>
              <a:r>
                <a:rPr b="1" lang="pt-BR" sz="1600" spc="-1" strike="noStrike">
                  <a:solidFill>
                    <a:srgbClr val="404040"/>
                  </a:solidFill>
                  <a:latin typeface="Arial"/>
                </a:rPr>
                <a:t>1.694 unidades de atendimento em funcionam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PRINCIPAIS TEMAS EM 20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2204640"/>
            <a:ext cx="8507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ções da Legislação Previdenciár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 Acidentário de Prevenção – FA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-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visão dos Benefícios por Incapaci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bertura Previdenciária – PNAD/20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edito Consign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acto de Acidente de Trânsito na Previdênci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abela 1" descr=""/>
          <p:cNvPicPr/>
          <p:nvPr/>
        </p:nvPicPr>
        <p:blipFill>
          <a:blip r:embed="rId1"/>
          <a:stretch/>
        </p:blipFill>
        <p:spPr>
          <a:xfrm>
            <a:off x="324000" y="804960"/>
            <a:ext cx="84294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CONSELHO DE PREVIDÊNCIA SOCIAL - C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ítulo 1"/>
          <p:cNvSpPr/>
          <p:nvPr/>
        </p:nvSpPr>
        <p:spPr>
          <a:xfrm>
            <a:off x="519120" y="342900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pt-BR" sz="4400" spc="-1" strike="noStrike" baseline="-25000">
                <a:solidFill>
                  <a:srgbClr val="000080"/>
                </a:solidFill>
                <a:latin typeface="Arial"/>
              </a:rPr>
              <a:t>Previsto para funcionar nas sedes das Gerências-Executivas do IN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1447920" y="453060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36640"/>
            <a:ext cx="88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O que são os Conselhos de Previdência Social - C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03, por força do Decreto nº 4.874, foram criados os CPS’s, unidades descentralizadas do Conselho Nacional de Previdência – CNP, vinculadas ou funcionando junto às Gerências-Executivas do IN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325440" y="3213000"/>
            <a:ext cx="85694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nstâncias colegiadas e têm caráter consultivo e de assessoramento, podendo encaminhar propostas para serem deliberadas no âmbito do CN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36600" y="4530600"/>
            <a:ext cx="8569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CPS’s buscam ampliar o diálogo entre a Gerência-Executiva do INSS e a sociedade, permitindo que as necessidades específicas de cada localidade no que diz respeito ao debate de políticas públicas e de legislação previdenciárias sejam atendidas de modo mais efic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108000" y="4797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CPS são compostos por 10 conselheiros, sendo 2 representantes dos trabalhadores, 2 dos empregadores, 2 dos aposentados e pensionistas e 4 do Governo, os quais se reúnem ao menos uma vez por bimest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SzPct val="71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tângulo de cantos arredondados 2"/>
          <p:cNvSpPr/>
          <p:nvPr/>
        </p:nvSpPr>
        <p:spPr>
          <a:xfrm>
            <a:off x="3635280" y="1273320"/>
            <a:ext cx="133056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tângulo de cantos arredondados 8"/>
          <p:cNvSpPr/>
          <p:nvPr/>
        </p:nvSpPr>
        <p:spPr>
          <a:xfrm>
            <a:off x="147636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OV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4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tângulo de cantos arredondados 10"/>
          <p:cNvSpPr/>
          <p:nvPr/>
        </p:nvSpPr>
        <p:spPr>
          <a:xfrm>
            <a:off x="4524480" y="2238480"/>
            <a:ext cx="2519280" cy="685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OCIE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6 representan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tângulo de cantos arredondados 11"/>
          <p:cNvSpPr/>
          <p:nvPr/>
        </p:nvSpPr>
        <p:spPr>
          <a:xfrm>
            <a:off x="539640" y="3429000"/>
            <a:ext cx="324036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APOSENTADOS/PENSIONI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tângulo de cantos arredondados 12"/>
          <p:cNvSpPr/>
          <p:nvPr/>
        </p:nvSpPr>
        <p:spPr>
          <a:xfrm>
            <a:off x="392436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TRABALH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tângulo de cantos arredondados 13"/>
          <p:cNvSpPr/>
          <p:nvPr/>
        </p:nvSpPr>
        <p:spPr>
          <a:xfrm>
            <a:off x="6516720" y="3429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EMPREG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2 representa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Conector reto 14"/>
          <p:cNvSpPr/>
          <p:nvPr/>
        </p:nvSpPr>
        <p:spPr>
          <a:xfrm>
            <a:off x="4300560" y="1882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Conector reto 16"/>
          <p:cNvSpPr/>
          <p:nvPr/>
        </p:nvSpPr>
        <p:spPr>
          <a:xfrm flipH="1">
            <a:off x="2734920" y="2060640"/>
            <a:ext cx="29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1" name="Conector de seta reta 19"/>
          <p:cNvCxnSpPr/>
          <p:nvPr/>
        </p:nvCxnSpPr>
        <p:spPr>
          <a:xfrm>
            <a:off x="572400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Conector de seta reta 21"/>
          <p:cNvCxnSpPr>
            <a:endCxn id="594" idx="0"/>
          </p:cNvCxnSpPr>
          <p:nvPr/>
        </p:nvCxnSpPr>
        <p:spPr>
          <a:xfrm flipH="1">
            <a:off x="2734560" y="2060640"/>
            <a:ext cx="108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3" name="Conector reto 23"/>
          <p:cNvSpPr/>
          <p:nvPr/>
        </p:nvSpPr>
        <p:spPr>
          <a:xfrm>
            <a:off x="5651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Conector reto 25"/>
          <p:cNvSpPr/>
          <p:nvPr/>
        </p:nvSpPr>
        <p:spPr>
          <a:xfrm flipH="1">
            <a:off x="2484000" y="32130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5" name="Conector de seta reta 27"/>
          <p:cNvCxnSpPr/>
          <p:nvPr/>
        </p:nvCxnSpPr>
        <p:spPr>
          <a:xfrm>
            <a:off x="2484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Conector de seta reta 30"/>
          <p:cNvCxnSpPr/>
          <p:nvPr/>
        </p:nvCxnSpPr>
        <p:spPr>
          <a:xfrm>
            <a:off x="781164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Conector de seta reta 4096"/>
          <p:cNvCxnSpPr>
            <a:endCxn id="597" idx="0"/>
          </p:cNvCxnSpPr>
          <p:nvPr/>
        </p:nvCxnSpPr>
        <p:spPr>
          <a:xfrm>
            <a:off x="5148000" y="321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5"/>
          <p:cNvSpPr/>
          <p:nvPr/>
        </p:nvSpPr>
        <p:spPr>
          <a:xfrm>
            <a:off x="581040" y="1341360"/>
            <a:ext cx="79930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DIVULGAÇÃO DAS INFORMAÇÕES RELATIVAS AO CNP E AOS CPS’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640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910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tângulo 1"/>
          <p:cNvSpPr/>
          <p:nvPr/>
        </p:nvSpPr>
        <p:spPr>
          <a:xfrm>
            <a:off x="684360" y="1341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O CONSELHO NACIONAL DE PREVID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tângulo 2"/>
          <p:cNvSpPr/>
          <p:nvPr/>
        </p:nvSpPr>
        <p:spPr>
          <a:xfrm>
            <a:off x="557280" y="2585880"/>
            <a:ext cx="806436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Previdência – CN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é um órgão superior de deliberação colegiada, instituído pela Lei nº 8.213, de 24 de julho de 1991, e te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principal objetivo estabelecer o caráter democrático e descentralizado da administração, em cumprimento ao disposto no art. 194 da Constituição, com a redação dada pela Emenda Constitucional nº 20, qu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coniza uma gestão quadriparti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a particip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overn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balhadores em ativ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preg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d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osent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MAI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Arial Unicode MS"/>
              </a:rPr>
              <a:t>INFORMAÇÕES SOBRE O CNP E SOBRE OS CPS’s PODEM SER ENCONTRADAS NO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d4d4d"/>
                </a:solidFill>
                <a:uFillTx/>
                <a:latin typeface="Arial"/>
                <a:ea typeface="Arial"/>
                <a:hlinkClick r:id="rId1"/>
              </a:rPr>
              <a:t>http://www.previdencia.gov.br/a-previdencia/orgaos-colegiados/conselho-nacional-de-previdencia-social-cnp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324000" y="1052640"/>
          <a:ext cx="8569080" cy="5400720"/>
        </p:xfrm>
        <a:graphic>
          <a:graphicData uri="http://schemas.openxmlformats.org/drawingml/2006/table">
            <a:tbl>
              <a:tblPr/>
              <a:tblGrid>
                <a:gridCol w="1325520"/>
                <a:gridCol w="595080"/>
                <a:gridCol w="433440"/>
                <a:gridCol w="409680"/>
                <a:gridCol w="409680"/>
                <a:gridCol w="409320"/>
                <a:gridCol w="409680"/>
                <a:gridCol w="409680"/>
                <a:gridCol w="409320"/>
                <a:gridCol w="409680"/>
                <a:gridCol w="409680"/>
                <a:gridCol w="409680"/>
                <a:gridCol w="409320"/>
                <a:gridCol w="409680"/>
                <a:gridCol w="409680"/>
                <a:gridCol w="409320"/>
                <a:gridCol w="890640"/>
              </a:tblGrid>
              <a:tr h="3031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4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ru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rulh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diaí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íli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sc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ci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dente Prudent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eirã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dre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Bernardo do Campo/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ão da Boa Vist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 Rio Preto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José dos Campos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/Lest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ocaba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0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ubaté / S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324000" y="1052640"/>
          <a:ext cx="8507160" cy="5545080"/>
        </p:xfrm>
        <a:graphic>
          <a:graphicData uri="http://schemas.openxmlformats.org/drawingml/2006/table">
            <a:tbl>
              <a:tblPr/>
              <a:tblGrid>
                <a:gridCol w="1315800"/>
                <a:gridCol w="590760"/>
                <a:gridCol w="4316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7880"/>
                <a:gridCol w="406440"/>
                <a:gridCol w="884160"/>
              </a:tblGrid>
              <a:tr h="30132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deste 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s dos Goytacazes/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em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antin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nópoli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que de Caxia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3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ador Valadares/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iz de For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tes Claro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erói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o Preto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ópolis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ços de Caldas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de Janeiro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ófilo Otoni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6/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ab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berlândi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ginha / M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8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/ 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7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 Redonda / RJ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Instalad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"/>
          <p:cNvGraphicFramePr/>
          <p:nvPr/>
        </p:nvGraphicFramePr>
        <p:xfrm>
          <a:off x="395280" y="981000"/>
          <a:ext cx="8589960" cy="5327640"/>
        </p:xfrm>
        <a:graphic>
          <a:graphicData uri="http://schemas.openxmlformats.org/drawingml/2006/table">
            <a:tbl>
              <a:tblPr/>
              <a:tblGrid>
                <a:gridCol w="1328760"/>
                <a:gridCol w="596880"/>
                <a:gridCol w="434880"/>
                <a:gridCol w="409680"/>
                <a:gridCol w="411120"/>
                <a:gridCol w="411120"/>
                <a:gridCol w="409680"/>
                <a:gridCol w="411120"/>
                <a:gridCol w="409680"/>
                <a:gridCol w="411120"/>
                <a:gridCol w="409680"/>
                <a:gridCol w="411120"/>
                <a:gridCol w="411120"/>
                <a:gridCol w="409680"/>
                <a:gridCol w="411120"/>
                <a:gridCol w="409320"/>
                <a:gridCol w="893880"/>
              </a:tblGrid>
              <a:tr h="33804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Su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cavel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xias do Sul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pecó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iúma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itib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juí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inville / S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ngá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erei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Hamburg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 Fundo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otas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ei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a Grossa / P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5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Alegre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7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uguaiana / R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11/0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2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5" name=""/>
          <p:cNvGraphicFramePr/>
          <p:nvPr/>
        </p:nvGraphicFramePr>
        <p:xfrm>
          <a:off x="395280" y="981000"/>
          <a:ext cx="8507520" cy="5329440"/>
        </p:xfrm>
        <a:graphic>
          <a:graphicData uri="http://schemas.openxmlformats.org/drawingml/2006/table">
            <a:tbl>
              <a:tblPr/>
              <a:tblGrid>
                <a:gridCol w="1316160"/>
                <a:gridCol w="590400"/>
                <a:gridCol w="43200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8240"/>
                <a:gridCol w="406440"/>
                <a:gridCol w="884160"/>
              </a:tblGrid>
              <a:tr h="3096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d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 / 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reira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uaru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ira de Santa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taleza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anhuns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6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bun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2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eratriz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12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ão Pessoa / PB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3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zeiro do Norte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eió / 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soró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al / R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9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rolina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11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 / P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05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 Regis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vador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3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 Antonio de Jesus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0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Luís / M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ç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18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bral / 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/05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esina / PI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/01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2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ória da Conquista / B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7/0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93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457200" y="1197000"/>
          <a:ext cx="8435880" cy="5111640"/>
        </p:xfrm>
        <a:graphic>
          <a:graphicData uri="http://schemas.openxmlformats.org/drawingml/2006/table">
            <a:tbl>
              <a:tblPr/>
              <a:tblGrid>
                <a:gridCol w="1305000"/>
                <a:gridCol w="585720"/>
                <a:gridCol w="426960"/>
                <a:gridCol w="403200"/>
                <a:gridCol w="403200"/>
                <a:gridCol w="403200"/>
                <a:gridCol w="403200"/>
                <a:gridCol w="403560"/>
                <a:gridCol w="403200"/>
                <a:gridCol w="403200"/>
                <a:gridCol w="403200"/>
                <a:gridCol w="403200"/>
                <a:gridCol w="403200"/>
                <a:gridCol w="401760"/>
                <a:gridCol w="403200"/>
                <a:gridCol w="403200"/>
                <a:gridCol w="877680"/>
              </a:tblGrid>
              <a:tr h="511200">
                <a:tc gridSpan="1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intendência Regional Norte / Centro O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ência Executi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açã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gridSpan="14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de Reuniões por 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ima Reuniã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h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ém / P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811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 Vista / R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4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iabá / M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/20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 Federal / DF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rados / M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07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iânia / G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apá / A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2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1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us / AM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7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/20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mas / T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/08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o Velho / 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6/0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/20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Branco / A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08/0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20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2793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179280" y="820800"/>
          <a:ext cx="8785440" cy="5821200"/>
        </p:xfrm>
        <a:graphic>
          <a:graphicData uri="http://schemas.openxmlformats.org/drawingml/2006/table">
            <a:tbl>
              <a:tblPr/>
              <a:tblGrid>
                <a:gridCol w="1278000"/>
                <a:gridCol w="4292640"/>
                <a:gridCol w="3214800"/>
              </a:tblGrid>
              <a:tr h="646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ERINTENDÊ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8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çatuba, Bauru, Campinas, Jundiaí, Marília, Piracicaba, Ribeirão Preto, Santo André, Santos, São José dos Campos, São José do Rio Preto, São Paulo, Sorocaba, Taubaté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raquara, Guarulhos, Osasco, Presidente Prudente, São Bernardo do Campo, São João da Boa Vist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87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 </a:t>
                      </a:r>
                      <a:r>
                        <a:rPr b="0" lang="pt-BR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, Campos dos Goytacazes, Contagem, Diamantina, Governador Valadares, Montes Claros, Niterói, Ouro Preto, Petrópolis, Rio de Janeiro, Teófilo Otoni, Varginha, Vitór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acena, Divinópolis, Duque de Caxias, Juiz de Fora, Poços de Caldas, Uberaba, Uberlândia, Volta Redond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8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rian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menau, Canoas, Cascavel, Caxias do Sul, Chapecó, Criciúma, Curitiba, Florianópolis, Ijuí, Joinville, Maringá, Novo Hamburgo, Pelotas, Ponta Grossa, Porto Alegre, Santa Maria, Uruguaiana, Passo Fund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r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027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ina Grande, Garanhuns, Itabuna,  João Pessoa, Juazeiro, Juazeiro do Norte, Maceió, Natal, Petrolina, Salvador, Santo Antônio de Jes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2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caju, Barreiras, Caruaru, Feira de Santana, Fortaleza, Imperatriz, Mossoró,  Recife, São Luís, Sobral, Teresina, Vitória da Conquist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6318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o Grande, Distrito Federal, Dourados, Goiânia, Macapá, Mana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ápolis, Belém, Boa Vista, Cuiabá, Palmas, Porto Velho, Rio Branco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3722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pt-B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d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5"/>
          <p:cNvSpPr/>
          <p:nvPr/>
        </p:nvSpPr>
        <p:spPr>
          <a:xfrm>
            <a:off x="611280" y="2060640"/>
            <a:ext cx="763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Muito obrigado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ntatos: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splanada dos Ministérios, Bloco F, 7º Andar, Sala 735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rasília, DF - CEP: 70059-900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-mail: cnps@previdencia.gov.br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one: (61) 2021-5164/5301</a:t>
            </a:r>
            <a:br>
              <a:rPr sz="1800"/>
            </a:b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Fax: (61) 2021-5345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ângulo 1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COMPOSIÇÃO DO CONSELHO NACIONAL DE PREVIDÊ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tângulo 2"/>
          <p:cNvSpPr/>
          <p:nvPr/>
        </p:nvSpPr>
        <p:spPr>
          <a:xfrm>
            <a:off x="250920" y="2492280"/>
            <a:ext cx="864216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S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conselheiro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do govern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da sociedade civil, send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trabalhadore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aposentados e pensionistas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representantes dos empregador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Arial Unicode MS"/>
              </a:rPr>
              <a:t>REPRESENTANTES</a:t>
            </a: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 DO GOVERNO FEDERAL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79280" y="1557000"/>
            <a:ext cx="446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nrique de Campos Meirelles – Presidente do CN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ro da Fazenda –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nedito Adalberto Brunca</a:t>
            </a:r>
            <a:r>
              <a:rPr b="0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 Secretário Executivo do CN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de Políticas de Previdência Social do Ministério da Previdência 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onardo de Melo Gadelh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Presidente do Instituto Nacional do Seguro Social - IN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elo Abi-Ramia Caetan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de Política de Previdência Complementar do Ministério da Previdência 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eferson Luis Bittencour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a Fazenda -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arildo Saldanha de Olivei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o Planejamento, Orçamento e Gestão - 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0" y="1557000"/>
            <a:ext cx="4464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duardo Refinetti Guard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ário Executivo do Ministério da Fazenda -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manuel de Araújo Dan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Diretor do Departamento do Regime Geral de Previdênci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ocial - M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binson Flávio Dias Neme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Diretor de Benefícios do Instituto Nacional do Seguro Social - INS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niel Belmiro Fo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Secretaria da Receita Federal do Brasil – SRF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io Guimarães Figueire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Ministério da Fazenda – M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gério Nagamine Costanz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  <a:ea typeface="Arial"/>
              </a:rPr>
              <a:t>Instituto de Pesquisa Econômica Aplicada - IP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TRABALHADORES EM ATIVIDAD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onio Cortez Mor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rça Sindical - 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intino Marques Sev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Única dos Trabalhadores – 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andro José Mor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Trabalhadores na Agricultura - CON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47960" y="1989000"/>
            <a:ext cx="42447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guel Salaberry Fi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União Geral dos Trabalhadores - U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oão Junior Onuki Al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Pescadores e Aquicultores - CN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scoal Carn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dos Trabalhadores e Trabalhadoras do Brasil - C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EMPREGADOR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rissa Nascente Guimarães Lesto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a Indústria - C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ônio Lisboa Cardo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 Comércio - C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drigo Hugueney do Amaral M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da Agricultura e Pecuária do Brasil – C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lter Tadeu Pinto de F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as Instituições Financeiras - C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rgio Aureliano Machado da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e Municípios - C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icardo de Saboya Rocha Mira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 Transporte - C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REPRESENTANTES DOS APOSENTADOS E PENSIONIST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T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rson Maia de Carv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ndicato Nacional dos Trabalhadores Aposentados e Pensionistas e Idosos – SINTAPI/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os Barroso de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Brasileira de Aposentados e Pensionistas – COB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drea Angerami G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ndicato Nacional dos Aposentados e Pensionistas da Força Sindical – SINDN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648320" y="1989000"/>
            <a:ext cx="43876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ucio Antonio Bellentan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entral dos Sindicatos Brasileiros - CS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ildo Arquiminio de Carval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Brasileira de Aposentados e Pensionistas – COB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gracia Viviane Rodrigues da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ederação Nacional dos Trabalhadores na Agricultura - CON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atendimento ao art. 194, parágrafo único, VIII da CF, o Conselho visa à organização da Previdência Social, garantindo o  caráter democrático e descentralizado da administração, mediante gestão quadripartite, com a participação do Governo, dos trabalhadores em atividade, dos empregadores e dos aposen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80"/>
                </a:solidFill>
                <a:latin typeface="Arial"/>
              </a:rPr>
              <a:t>COMPETÊ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iberar sobre a política de previd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liberar sobre a gestão do sistema previdenci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ciar e aprovar planos e program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objetivos, metas, prazos e mecanismos de controle para avaliação da execução desses programas, no âmbito da Previdência So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ciar e aprovar a proposta orçamentária da Previdência Social antes de sua consolid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mpanhar a aplicação da legislação pertinente à Previdência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brina Dias de Araujo Mendonca - MPS</dc:creator>
  <dc:description/>
  <dc:language>en-US</dc:language>
  <cp:lastModifiedBy>Silvana do Socorro Machado Rodrigues - MPS</cp:lastModifiedBy>
  <cp:lastPrinted>2016-11-09T19:23:49Z</cp:lastPrinted>
  <dcterms:modified xsi:type="dcterms:W3CDTF">2017-02-14T20:05:36Z</dcterms:modified>
  <cp:revision>288</cp:revision>
  <dc:subject/>
  <dc:title>Slide 1</dc:title>
</cp:coreProperties>
</file>